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nsion</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is a medical condition in which constricted arterial blood vessels increase the resistance to blood flow, causing the blood to exert excessive pressure against vessel walls. The heart must work harder to pump blood through the narrowed arteries. If the condition persists, damage to the heart and blood vessels is likely, increasing the risk for stroke, heart attack, and kidney or heart failure. Often called “the silent killer”, hypertension usually causes no symptoms until it reaches a life-threatening stag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affects 25 percent of people living in North America. of these, almost a third are unaware of their condition. Until the age of 55, more men than women have hypertens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k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o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sto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eury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rrh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hypertens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onsequences of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hypertension called “the silent kill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ystolic pres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diastolic pres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ptimal blood pressure in an ad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physicians categorize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auses of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rgan plays a major role in the regulation of blood pres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hypertension be tre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whether the following statements are true or false:</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ypertension, arterial blood vessels decrease the resistance to blood flow.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increases the risk for stroke, heart attack, and kidney or heart failure.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il the age of 55, hypertension affects more women than men.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olic pressure is measured as the heart relaxes to allow blood to flow into the heart.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is defined as blood pressure greater than or equal to 120/80 mm HG.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s categorize hypertension into four stages: mild, moderate, severe, and very severe.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forces the heart to work harder to pump adequate blood throughout the body.                                                         T     F</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s can be derived from the following:</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conditional sentenc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smoked less, his health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will check your blood pressure if you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he had taken more exercise,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ould have been in serious trouble if th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ake your pills regularly,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rug would be approved if the expe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had had the choice, 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he get any information there if h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orrect word:</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meeting was really..........................(disappointed/disappoin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for us to ask people about their private lives. (embarrassed/embarrass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looks so....................  Has he been working all day? (exhausted/exhau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cture was very..................... Many students fell asleep. (bored/bo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as really........................when they offered me a job in this company.  (amazed/amaz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need to get..........................about that trip. (excited/exci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news for her. (shocked/shoc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ритмије су много горе од уобичајеног лупања срца, стања у којем се чини да срце прескаче откуцај или два. Лупање срца често је незнатно и само исчезава. То није случај са срчаним аритмијама. Оне ћесто не пролазе саме од себе и могу да доведу до јаког срчаног напада.</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рчана аритмија једноставно значи да је срчани ритам неуједначен  - или превише брз или превише спор. Када вам срце куца превише брзо – више од 100 откуцаја у минути – то стање се зове тахикардија. Када оно куца преспоро – испод 60 откуцаја у минути – болујете од брадикардије. Аритмије такође имају називе према делу срца који захватају. Атријалне аритмије срчаних преткомора представљају поремећај способности срца да пумпа крв из горњих преткомора, што има за последицу “скупљање” крв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9T18:30:51Z</dcterms:modified>
  <cp:revision>13</cp:revision>
  <dc:subject/>
  <dc:title>Slide 1</dc:title>
</cp:coreProperties>
</file>